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9DDB-7AB2-4245-8EA5-CD303572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2FD3-3E44-4484-859D-1FDE8215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660-06EA-43B5-A932-F5D86C01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ED4-C033-442D-A351-7D84F192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2AE-9061-468E-ACA6-867638A0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C1A-1D04-4DAA-8FC4-DD6329FB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829-9C52-493B-BE20-9AD511F6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127-7FF5-4E2C-80B5-43BBD0C5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9A0-00F4-4CF1-8193-9C7C4F0E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4A3-DC72-44D5-AA70-7F4B892B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DE6-A0FF-463E-8945-7FCE00FF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6B7-FF0F-4C3E-8F27-25E63DB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FEC-8ADF-41B8-9423-9D41705E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58A-B989-48C1-966E-DE943C35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3247-F149-4609-8B75-E32182EFA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19.xml"/><Relationship Id="rId17" Type="http://schemas.openxmlformats.org/officeDocument/2006/relationships/slide" Target="slide29.xml"/><Relationship Id="rId18" Type="http://schemas.openxmlformats.org/officeDocument/2006/relationships/slide" Target="slide39.xml"/><Relationship Id="rId19" Type="http://schemas.openxmlformats.org/officeDocument/2006/relationships/slide" Target="slide49.xml"/><Relationship Id="rId20" Type="http://schemas.openxmlformats.org/officeDocument/2006/relationships/slide" Target="slide11.xml"/><Relationship Id="rId21" Type="http://schemas.openxmlformats.org/officeDocument/2006/relationships/slide" Target="slide21.xml"/><Relationship Id="rId22" Type="http://schemas.openxmlformats.org/officeDocument/2006/relationships/slide" Target="slide31.xml"/><Relationship Id="rId23" Type="http://schemas.openxmlformats.org/officeDocument/2006/relationships/slide" Target="slide41.xml"/><Relationship Id="rId24" Type="http://schemas.openxmlformats.org/officeDocument/2006/relationships/slide" Target="slide51.xml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3.xml"/><Relationship Id="rId3" Type="http://schemas.openxmlformats.org/officeDocument/2006/relationships/slide" Target="slide63.xml"/><Relationship Id="rId4" Type="http://schemas.openxmlformats.org/officeDocument/2006/relationships/slide" Target="slide73.xml"/><Relationship Id="rId5" Type="http://schemas.openxmlformats.org/officeDocument/2006/relationships/slide" Target="slide83.xml"/><Relationship Id="rId6" Type="http://schemas.openxmlformats.org/officeDocument/2006/relationships/slide" Target="slide55.xml"/><Relationship Id="rId7" Type="http://schemas.openxmlformats.org/officeDocument/2006/relationships/slide" Target="slide65.xml"/><Relationship Id="rId8" Type="http://schemas.openxmlformats.org/officeDocument/2006/relationships/slide" Target="slide75.xml"/><Relationship Id="rId9" Type="http://schemas.openxmlformats.org/officeDocument/2006/relationships/slide" Target="slide85.xml"/><Relationship Id="rId10" Type="http://schemas.openxmlformats.org/officeDocument/2006/relationships/slide" Target="slide57.xml"/><Relationship Id="rId11" Type="http://schemas.openxmlformats.org/officeDocument/2006/relationships/slide" Target="slide67.xml"/><Relationship Id="rId12" Type="http://schemas.openxmlformats.org/officeDocument/2006/relationships/slide" Target="slide77.xml"/><Relationship Id="rId13" Type="http://schemas.openxmlformats.org/officeDocument/2006/relationships/slide" Target="slide87.xml"/><Relationship Id="rId14" Type="http://schemas.openxmlformats.org/officeDocument/2006/relationships/slide" Target="slide59.xml"/><Relationship Id="rId15" Type="http://schemas.openxmlformats.org/officeDocument/2006/relationships/slide" Target="slide69.xml"/><Relationship Id="rId16" Type="http://schemas.openxmlformats.org/officeDocument/2006/relationships/slide" Target="slide79.xml"/><Relationship Id="rId17" Type="http://schemas.openxmlformats.org/officeDocument/2006/relationships/slide" Target="slide89.xml"/><Relationship Id="rId18" Type="http://schemas.openxmlformats.org/officeDocument/2006/relationships/slide" Target="slide61.xml"/><Relationship Id="rId19" Type="http://schemas.openxmlformats.org/officeDocument/2006/relationships/slide" Target="slide71.xml"/><Relationship Id="rId20" Type="http://schemas.openxmlformats.org/officeDocument/2006/relationships/slide" Target="slide81.xml"/><Relationship Id="rId21" Type="http://schemas.openxmlformats.org/officeDocument/2006/relationships/slide" Target="slide91.xml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Nikki\AppData\Local\Microsoft\Windows\Temporary Internet Files\Content.IE5\NUO26G32\MCj0440176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143000"/>
          <a:ext cx="8458200" cy="5410080"/>
        </p:xfrm>
        <a:graphic>
          <a:graphicData uri="http://schemas.openxmlformats.org/drawingml/2006/table">
            <a:tbl>
              <a:tblPr/>
              <a:tblGrid>
                <a:gridCol w="1692360"/>
                <a:gridCol w="1690560"/>
                <a:gridCol w="1692360"/>
                <a:gridCol w="1690920"/>
                <a:gridCol w="16920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Soi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Leav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Ste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Life Cyc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Little bit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Every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3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4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5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6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7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8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9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0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1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2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3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4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5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6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7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8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9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0" action="ppaction://hlinksldjump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1" action="ppaction://hlinksldjump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2" action="ppaction://hlinksldjump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3" action="ppaction://hlinksldjump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4" action="ppaction://hlinksldjump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2438280" y="-304920"/>
            <a:ext cx="50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urlz MT"/>
              </a:rPr>
              <a:t>Jeopard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838080" y="312408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vermicul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14600" y="1523880"/>
            <a:ext cx="41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Yet another Name for Soil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438280" y="2895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Med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905120" y="152388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Sub-division of a lea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2209680" y="22860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Lob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2057400" y="1676520"/>
            <a:ext cx="426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Are leaf like part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1905120" y="281952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Foli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2209680" y="198108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The leaf of a fer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743200" y="266688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Fro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1981080" y="12193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Two or more colors on the leaf (or flowe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Nikki\AppData\Local\Microsoft\Windows\Temporary Internet Files\Content.IE5\NUO26G32\MCj0440176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80880" y="1143000"/>
          <a:ext cx="8305920" cy="545292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Propa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Prefix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Descri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Little bit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Every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3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4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5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6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7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8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9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0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1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2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3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4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5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6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7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8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9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0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1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" name="TextBox 4"/>
          <p:cNvSpPr/>
          <p:nvPr/>
        </p:nvSpPr>
        <p:spPr>
          <a:xfrm>
            <a:off x="2438280" y="-304920"/>
            <a:ext cx="50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urlz MT"/>
              </a:rPr>
              <a:t>Jeopard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533520" y="281952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Variegat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2895480" y="1905120"/>
            <a:ext cx="297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Stalk of the Lea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1447920" y="291456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Petio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1752480" y="914400"/>
            <a:ext cx="541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ortion of the stem which has a leaf, leaves, or bu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2209680" y="2743200"/>
            <a:ext cx="541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No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286000" y="190512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Stem section between two nod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1447920" y="28954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Interno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2133720" y="2286000"/>
            <a:ext cx="510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Leaf and stem angl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2286000" y="26668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atik Regular"/>
              </a:rPr>
              <a:t>Ax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828800" y="762120"/>
            <a:ext cx="5029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Portions of the plant have grown longer internodes that other portions of the pla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Batik Regular"/>
              </a:rPr>
              <a:t>10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327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tik Regular"/>
              </a:rPr>
              <a:t>Ano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tik Regular"/>
              </a:rPr>
              <a:t>name for soi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2438280" y="274320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Legg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0" y="1676520"/>
            <a:ext cx="4648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s from old plants that run along the ground and grow new pl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Rectangle 5" descr=""/>
          <p:cNvPicPr/>
          <p:nvPr/>
        </p:nvPicPr>
        <p:blipFill>
          <a:blip r:embed="rId4"/>
          <a:stretch/>
        </p:blipFill>
        <p:spPr>
          <a:xfrm>
            <a:off x="1158840" y="274680"/>
            <a:ext cx="6705720" cy="113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5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95480" y="297180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nn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1905120" y="1371600"/>
            <a:ext cx="4724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Has a life cycle of one y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1523880" y="266688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atik Regular"/>
              </a:rPr>
              <a:t>annu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2133720" y="914400"/>
            <a:ext cx="487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lants with a life cycle of three or more y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1219320" y="27432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Perenni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2286000" y="762120"/>
            <a:ext cx="464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Life cycle that is complete in two year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1066680" y="2666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bienn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6"/>
          <p:cNvSpPr/>
          <p:nvPr/>
        </p:nvSpPr>
        <p:spPr>
          <a:xfrm>
            <a:off x="2057400" y="2514600"/>
            <a:ext cx="487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This term means sexl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tik Regular"/>
              </a:rPr>
              <a:t>100 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tik Regular"/>
              </a:rPr>
              <a:t>   </a:t>
            </a:r>
            <a:r>
              <a:rPr b="0" lang="en-US" sz="7200" spc="-1" strike="noStrike">
                <a:solidFill>
                  <a:srgbClr val="000000"/>
                </a:solidFill>
                <a:latin typeface="Batik Regular"/>
              </a:rPr>
              <a:t>Medium</a:t>
            </a:r>
            <a:r>
              <a:rPr b="0" lang="en-US" sz="7200" spc="-1" strike="noStrike">
                <a:solidFill>
                  <a:srgbClr val="ffffff"/>
                </a:solidFill>
                <a:latin typeface="Batik Regular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5"/>
          <p:cNvSpPr/>
          <p:nvPr/>
        </p:nvSpPr>
        <p:spPr>
          <a:xfrm>
            <a:off x="2057400" y="274320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Asexu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2514600" y="1905120"/>
            <a:ext cx="3886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Young baby plant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1447920" y="28195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Seedl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5"/>
          <p:cNvSpPr/>
          <p:nvPr/>
        </p:nvSpPr>
        <p:spPr>
          <a:xfrm>
            <a:off x="2286000" y="990720"/>
            <a:ext cx="4876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The period necessary for a plant to adjust to a new environmen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5"/>
          <p:cNvSpPr/>
          <p:nvPr/>
        </p:nvSpPr>
        <p:spPr>
          <a:xfrm>
            <a:off x="838080" y="30481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Accli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5"/>
          <p:cNvSpPr/>
          <p:nvPr/>
        </p:nvSpPr>
        <p:spPr>
          <a:xfrm>
            <a:off x="2286000" y="1752480"/>
            <a:ext cx="464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The growth period for seed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1295280" y="289548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Ger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1905120" y="762120"/>
            <a:ext cx="5333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Time frame between the last killing frost in the spring to the first killing frost in the fal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1523880" y="25909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Growing Sea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2590920" y="1828800"/>
            <a:ext cx="396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New growth on a pl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1828800" y="1676520"/>
            <a:ext cx="617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tik Regular"/>
              </a:rPr>
              <a:t>Used in soil mixtures to aerate the soi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tik Regular"/>
              </a:rPr>
              <a:t>Looks like small white bal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5"/>
          <p:cNvSpPr/>
          <p:nvPr/>
        </p:nvSpPr>
        <p:spPr>
          <a:xfrm>
            <a:off x="2286000" y="2819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Shoo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2286000" y="1676520"/>
            <a:ext cx="426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The inactive period in the life cycle of a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ctangle 5" descr=""/>
          <p:cNvPicPr/>
          <p:nvPr/>
        </p:nvPicPr>
        <p:blipFill>
          <a:blip r:embed="rId4"/>
          <a:stretch/>
        </p:blipFill>
        <p:spPr>
          <a:xfrm>
            <a:off x="1158840" y="274680"/>
            <a:ext cx="6705720" cy="113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5" name="chim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306" name="TextBox 5"/>
          <p:cNvSpPr/>
          <p:nvPr/>
        </p:nvSpPr>
        <p:spPr>
          <a:xfrm>
            <a:off x="2057400" y="28195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Dormanc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/>
          <p:cNvSpPr/>
          <p:nvPr/>
        </p:nvSpPr>
        <p:spPr>
          <a:xfrm>
            <a:off x="2133720" y="1676520"/>
            <a:ext cx="480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Method used to get a new plant from the mother pl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C:\Users\Nikki\AppData\Local\Microsoft\Windows\Temporary Internet Files\Content.IE5\NUO26G32\MCj04391160000[1]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>
            <a:off x="1143000" y="30481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1752480" y="129528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ropagation by separation the plant at its root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2057400" y="27432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divi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2362320" y="1295280"/>
            <a:ext cx="4038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Used to propagate plants; section of stem is cut at nod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1905120" y="281952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Cut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4"/>
          <p:cNvSpPr/>
          <p:nvPr/>
        </p:nvSpPr>
        <p:spPr>
          <a:xfrm>
            <a:off x="2209680" y="914400"/>
            <a:ext cx="5029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Small plant that may be taken from the mother plant for propagation purpose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609480" y="3047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tik Regular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Perlit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2438280" y="294624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Offs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1523880" y="1066680"/>
            <a:ext cx="601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Reproductive system in non flowering plant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TextBox 4"/>
          <p:cNvSpPr/>
          <p:nvPr/>
        </p:nvSpPr>
        <p:spPr>
          <a:xfrm>
            <a:off x="2438280" y="281952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Spo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1752480" y="838080"/>
            <a:ext cx="5715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Process by which plants use sunlight to manufacture food from carbon dioxide and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1143000" y="32767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1676520" y="1600200"/>
            <a:ext cx="579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Materials not derived from plants and animal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1523880" y="320040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inorgan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1905120" y="1676520"/>
            <a:ext cx="464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eriod of daylight needed to induce flowering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4"/>
          <p:cNvSpPr/>
          <p:nvPr/>
        </p:nvSpPr>
        <p:spPr>
          <a:xfrm>
            <a:off x="1219320" y="312408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Photoperi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4"/>
          <p:cNvSpPr/>
          <p:nvPr/>
        </p:nvSpPr>
        <p:spPr>
          <a:xfrm>
            <a:off x="1752480" y="1219320"/>
            <a:ext cx="563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Plant growth toward the light sour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1752480" y="1295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otting soil allows for drainage and good root growt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1600200" y="31240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00" name="TextBox 4"/>
          <p:cNvSpPr/>
          <p:nvPr/>
        </p:nvSpPr>
        <p:spPr>
          <a:xfrm>
            <a:off x="1828800" y="1600200"/>
            <a:ext cx="586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Both sexes; a stamen and a pis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1523880" y="281952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Bisexu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1447920" y="129528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Plants that store water in stems and leav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1676520" y="30481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succul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0" name="TextBox 4"/>
          <p:cNvSpPr/>
          <p:nvPr/>
        </p:nvSpPr>
        <p:spPr>
          <a:xfrm>
            <a:off x="1828800" y="1295280"/>
            <a:ext cx="4800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Ability of a plant to survive the winter outs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2133720" y="281952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H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30" name="TextBox 4"/>
          <p:cNvSpPr/>
          <p:nvPr/>
        </p:nvSpPr>
        <p:spPr>
          <a:xfrm>
            <a:off x="1752480" y="1676520"/>
            <a:ext cx="487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Part of the plant containing seed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TextBox 4"/>
          <p:cNvSpPr/>
          <p:nvPr/>
        </p:nvSpPr>
        <p:spPr>
          <a:xfrm>
            <a:off x="2057400" y="28954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Fru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2057400" y="129528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lant that loses its leaves for a portion of the y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pic>
        <p:nvPicPr>
          <p:cNvPr id="442" name="Rectangle 6" descr=""/>
          <p:cNvPicPr/>
          <p:nvPr/>
        </p:nvPicPr>
        <p:blipFill>
          <a:blip r:embed="rId3"/>
          <a:stretch/>
        </p:blipFill>
        <p:spPr>
          <a:xfrm>
            <a:off x="1365120" y="195120"/>
            <a:ext cx="641988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1371600" y="327672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Aerat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1752480" y="3124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Decidu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51" name="TextBox 4"/>
          <p:cNvSpPr/>
          <p:nvPr/>
        </p:nvSpPr>
        <p:spPr>
          <a:xfrm>
            <a:off x="1523880" y="190512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Storage organ; usually undergr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TextBox 4"/>
          <p:cNvSpPr/>
          <p:nvPr/>
        </p:nvSpPr>
        <p:spPr>
          <a:xfrm>
            <a:off x="1828800" y="26668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bul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C:\Users\Nikki\AppData\Local\Microsoft\Windows\Temporary Internet Files\Content.IE5\W62762PT\MCj0440170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TextBox 4"/>
          <p:cNvSpPr/>
          <p:nvPr/>
        </p:nvSpPr>
        <p:spPr>
          <a:xfrm>
            <a:off x="2057400" y="14479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An undeveloped flo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C:\Users\Nikki\AppData\Local\Microsoft\Windows\Temporary Internet Files\Content.IE5\DISWJ9YS\MCj0440171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4"/>
          <p:cNvSpPr/>
          <p:nvPr/>
        </p:nvSpPr>
        <p:spPr>
          <a:xfrm>
            <a:off x="1828800" y="28954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B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Users\Nikki\AppData\Local\Microsoft\Windows\Temporary Internet Files\Content.IE5\W62762PT\MCj0440170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71" name="TextBox 4"/>
          <p:cNvSpPr/>
          <p:nvPr/>
        </p:nvSpPr>
        <p:spPr>
          <a:xfrm>
            <a:off x="914400" y="144792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Technique use to bring plants into bloom before normal cyc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" descr="C:\Users\Nikki\AppData\Local\Microsoft\Windows\Temporary Internet Files\Content.IE5\DISWJ9YS\MCj0440171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4"/>
          <p:cNvSpPr/>
          <p:nvPr/>
        </p:nvSpPr>
        <p:spPr>
          <a:xfrm>
            <a:off x="1676520" y="29304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Forc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C:\Users\Nikki\AppData\Local\Microsoft\Windows\Temporary Internet Files\Content.IE5\W62762PT\MCj0440170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81" name="TextBox 4"/>
          <p:cNvSpPr/>
          <p:nvPr/>
        </p:nvSpPr>
        <p:spPr>
          <a:xfrm>
            <a:off x="1600200" y="190512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The male portion of the pl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C:\Users\Nikki\AppData\Local\Microsoft\Windows\Temporary Internet Files\Content.IE5\DISWJ9YS\MCj0440171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TextBox 4"/>
          <p:cNvSpPr/>
          <p:nvPr/>
        </p:nvSpPr>
        <p:spPr>
          <a:xfrm>
            <a:off x="1523880" y="281952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Stam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C:\Users\Nikki\AppData\Local\Microsoft\Windows\Temporary Internet Files\Content.IE5\W62762PT\MCj0440170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1" name="TextBox 4"/>
          <p:cNvSpPr/>
          <p:nvPr/>
        </p:nvSpPr>
        <p:spPr>
          <a:xfrm>
            <a:off x="1905120" y="1447920"/>
            <a:ext cx="5181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Major root of some pla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828800" y="7621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Used in soil mixture to aerate the soi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Looks like s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C:\Users\Nikki\AppData\Local\Microsoft\Windows\Temporary Internet Files\Content.IE5\DISWJ9YS\MCj0440171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4"/>
          <p:cNvSpPr/>
          <p:nvPr/>
        </p:nvSpPr>
        <p:spPr>
          <a:xfrm>
            <a:off x="1828800" y="281952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tapro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C:\Users\Nikki\AppData\Local\Microsoft\Windows\Temporary Internet Files\Content.IE5\W62762PT\MCj0440170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4"/>
          <p:cNvSpPr/>
          <p:nvPr/>
        </p:nvSpPr>
        <p:spPr>
          <a:xfrm>
            <a:off x="1905120" y="167652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The edge of the leaf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" descr="C:\Users\Nikki\AppData\Local\Microsoft\Windows\Temporary Internet Files\Content.IE5\DISWJ9YS\MCj0440171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2133720" y="2854440"/>
            <a:ext cx="48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marg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3:31Z</dcterms:created>
  <dc:creator>Nikki Wright</dc:creator>
  <dc:description/>
  <dc:language>en-US</dc:language>
  <cp:lastModifiedBy>dilling</cp:lastModifiedBy>
  <dcterms:modified xsi:type="dcterms:W3CDTF">2009-04-02T16:14:59Z</dcterms:modified>
  <cp:revision>28</cp:revision>
  <dc:subject/>
  <dc:title>Slide 1</dc:title>
</cp:coreProperties>
</file>